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DDF17-2546-4E6D-BF83-566A24616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6E748-5AED-4491-967A-0DBF2D24B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608BD-4FFC-4467-A1D9-E759E7719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C01FD-5889-4B6C-B9D1-7A780ED7B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65E69-F16C-42E4-BD57-D8100EAF4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4E126-08E4-497D-8437-B4AB8201A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298E1-FE09-4A75-A413-6EDC20701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42B11-37DA-4A02-A0C6-F5B0FC65D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3204B-8809-4394-846E-7288DACC2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5CD88-6025-41F0-A1F7-61EA33809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6BFEE-BF05-4D20-8027-D56721FD3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8B8D9-C079-4DF2-96B2-1AE74D8A2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AD605-C921-4EFE-8AD7-DBACC15AB5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99640" y="1413000"/>
            <a:ext cx="755820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Besoins en Instrumentation pour les gros Water Cerenkov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idée en vra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Jean-Er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21/03/0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lque chiff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aille 65m diam. 65m de haut: 220kT d’eau (rappel SuperK 50k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~81,000 12’’ PMTs (equi. 40% coverage 20’’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MEMPHYS : 3 puits =&gt; 440kT fiduci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Coût: 300k€ (cavités) + 300k€ PMTs et électronique, HT + 100k€ usines radon– pour l’air et l’ea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116880" y="6040440"/>
            <a:ext cx="539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&amp;D pour réduire les coûts (mais pas seulement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xe de R&amp;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Lien Cavité-détecteur: éviter un container soudé en inox =&gt; Liner à la IMB. Ex. de R&amp;D au US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492360" y="2708280"/>
            <a:ext cx="4640400" cy="33512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684360" y="3860640"/>
            <a:ext cx="259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s forcément où le LAL peu avoir un imp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xe de R&amp;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PMTs et Electronique, HT: cf. ANR 2006 projet: « PMm2 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Démonstrateur d’une unité de détection autonome ~1m</a:t>
            </a:r>
            <a:r>
              <a:rPr b="0" lang="fr-FR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: une matrice de 4x4 PMs (8’’ </a:t>
            </a:r>
            <a:r>
              <a:rPr b="0" lang="fr-FR" sz="2800" spc="-1" strike="noStrike">
                <a:solidFill>
                  <a:srgbClr val="ff0000"/>
                </a:solidFill>
                <a:latin typeface="Arial"/>
              </a:rPr>
              <a:t>PHOTONIS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) immergé dans l’eau (</a:t>
            </a:r>
            <a:r>
              <a:rPr b="0" lang="fr-FR" sz="2800" spc="-1" strike="noStrike">
                <a:solidFill>
                  <a:srgbClr val="ff0000"/>
                </a:solidFill>
                <a:latin typeface="Arial"/>
              </a:rPr>
              <a:t>IPNO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) avec ASIC de lecture (</a:t>
            </a:r>
            <a:r>
              <a:rPr b="0" lang="fr-FR" sz="2800" spc="-1" strike="noStrike">
                <a:solidFill>
                  <a:srgbClr val="ff0000"/>
                </a:solidFill>
                <a:latin typeface="Arial"/>
              </a:rPr>
              <a:t>LAL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) allant du correcteur de Gain jusqu’à la digitization Charge et Temps, et l’unité de réseau WiFi (</a:t>
            </a:r>
            <a:r>
              <a:rPr b="0" lang="fr-FR" sz="2800" spc="-1" strike="noStrike">
                <a:solidFill>
                  <a:srgbClr val="ff0000"/>
                </a:solidFill>
                <a:latin typeface="Arial"/>
              </a:rPr>
              <a:t>LAPP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=&gt; </a:t>
            </a:r>
            <a:r>
              <a:rPr b="0" lang="fr-FR" sz="2800" spc="-1" strike="noStrike">
                <a:solidFill>
                  <a:srgbClr val="ff0000"/>
                </a:solidFill>
                <a:latin typeface="Arial"/>
              </a:rPr>
              <a:t>1k€/voie tout compris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7093080" y="4941720"/>
            <a:ext cx="1504800" cy="16574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739440" y="6040440"/>
            <a:ext cx="347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i l’ANR refuse le R&amp;D deme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xe de R&amp;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0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Certains canaux de physique ont besoin de tagger </a:t>
            </a:r>
            <a:r>
              <a:rPr b="0" lang="fr-FR" sz="2800" spc="-1" strike="noStrike">
                <a:solidFill>
                  <a:srgbClr val="000000"/>
                </a:solidFill>
                <a:latin typeface="Symbol"/>
                <a:ea typeface="Symbol"/>
              </a:rPr>
              <a:t></a:t>
            </a:r>
            <a:r>
              <a:rPr b="0" lang="fr-FR" sz="28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 + p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Arial"/>
              </a:rPr>
              <a:t>→ </a:t>
            </a:r>
            <a:r>
              <a:rPr b="0" lang="fr-FR" sz="2800" spc="-1" strike="noStrike">
                <a:solidFill>
                  <a:srgbClr val="ff0000"/>
                </a:solidFill>
                <a:latin typeface="Arial"/>
                <a:ea typeface="Arial"/>
              </a:rPr>
              <a:t>n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Arial"/>
              </a:rPr>
              <a:t> + e</a:t>
            </a:r>
            <a:r>
              <a:rPr b="0" lang="fr-FR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Neutrinos d’ancienne Supernova (réduction du bdf muon atmos. invisib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Si burning dans le cas d’une SN &lt;2k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Neutrinos de réacteur (mesure des paramétres d’oscillations « de type solaire »)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39640" y="4724280"/>
            <a:ext cx="5472360" cy="1584360"/>
          </a:xfrm>
          <a:prstGeom prst="rect">
            <a:avLst/>
          </a:prstGeom>
          <a:solidFill>
            <a:srgbClr val="682245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00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Gd</a:t>
            </a: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Cl</a:t>
            </a:r>
            <a:r>
              <a:rPr b="0" lang="en-US" sz="1800" spc="-1" strike="noStrike" baseline="-25000">
                <a:solidFill>
                  <a:srgbClr val="ffcc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highly water soluble but ac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eutron capture on Gd emits a </a:t>
            </a:r>
            <a:r>
              <a:rPr b="0" lang="en-US" sz="1600" spc="-1" strike="noStrike">
                <a:solidFill>
                  <a:srgbClr val="ffcc00"/>
                </a:solidFill>
                <a:latin typeface="Arial"/>
              </a:rPr>
              <a:t>8.0 MeV </a:t>
            </a:r>
            <a:r>
              <a:rPr b="0" lang="en-US" sz="1600" spc="-1" strike="noStrike">
                <a:solidFill>
                  <a:srgbClr val="ffcc00"/>
                </a:solidFill>
                <a:latin typeface="Symbol"/>
                <a:ea typeface="Symbol"/>
              </a:rPr>
              <a:t>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00 tons of GdCl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in SK-III (0.2% by mass) would yield  &gt;90% neutron captures on G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Test currently on the K2K 1kT proto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84360" y="6381720"/>
            <a:ext cx="459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0000"/>
                </a:solidFill>
                <a:latin typeface="Arial"/>
              </a:rPr>
              <a:t>Beacom &amp; Vagins Phys. Rev. Lett.,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93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:171101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312600" y="4365720"/>
            <a:ext cx="276984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ire une cuve de 1m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ifférent li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au pure + GdCl</a:t>
            </a:r>
            <a:r>
              <a:rPr b="0" lang="fr-FR" sz="18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(acid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3 P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427440" y="5661000"/>
            <a:ext cx="2337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de compatibilité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M-GdCl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er-GdC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1T10:44:59Z</dcterms:created>
  <dc:creator>J.E Campagne</dc:creator>
  <dc:description/>
  <dc:language>en-US</dc:language>
  <cp:lastModifiedBy>J.E Campagne</cp:lastModifiedBy>
  <dcterms:modified xsi:type="dcterms:W3CDTF">2006-03-21T10:45:23Z</dcterms:modified>
  <cp:revision>1</cp:revision>
  <dc:subject/>
  <dc:title>Besoins en Instrumentation pour les gros Water Cerenkov idée en vrac</dc:title>
</cp:coreProperties>
</file>